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A5EF-5E82-459E-8863-68EDAB4E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790C-FA80-499C-A598-9AF9195A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67A-3AD0-45B2-A327-80FA4045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F1E7-98E5-46E3-9AD6-B552A504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7DE7-5612-4EF6-A87E-2761049E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830E-964C-4FC4-B21A-970D3EF9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9FB7-0D00-4D1C-ACA9-4C3BE0F3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B6B3-B9FB-415D-A8CC-3436CBBA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1881-6602-4A08-97F9-16044B72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2B40-513C-40AD-B923-09FEF97F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6521-41E9-410B-B08C-A2561413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68A0-16AB-414E-8868-165FB1E6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23C7-BF0D-4A91-8A00-66A6A006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994A-A5E8-41B5-A783-E24BFE16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AAC3-DD1F-4DAE-A6C6-120C51AD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E448-0E2E-4350-96AD-AAFBD09F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7E94-B405-443F-8268-0FBB1FF3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1B7A-F741-4856-87BD-A99D34A3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BEFA-C85D-4897-AC75-63161C75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2BA8-8940-45DA-AD53-83BD9DC7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9E5B-69C2-4B5C-BCE0-B93994F4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9EE2-FAA2-43BD-A7D7-D755A861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EA6C-0EC7-414E-B031-204ECB87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AD2F-4DA1-4C9C-BEAB-D2133EC3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29AA-733A-4F3E-B242-0DAAE313CF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075E-E74D-4059-B553-BA179A45E7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matematyka.opracowania.pl/" TargetMode="External"/><Relationship Id="rId2" Type="http://schemas.openxmlformats.org/officeDocument/2006/relationships/hyperlink" Target="http://nauczyciel.pl/" TargetMode="External"/><Relationship Id="rId3" Type="http://schemas.openxmlformats.org/officeDocument/2006/relationships/hyperlink" Target="http://nauczyciel.pl/" TargetMode="External"/><Relationship Id="rId4" Type="http://schemas.openxmlformats.org/officeDocument/2006/relationships/hyperlink" Target="http://nauczyciel.pl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68360" y="2781360"/>
            <a:ext cx="8209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ORÓWNYWAN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LICZB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WYMIERNYCH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Z dwóch ułamków o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przeciwnych znakach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większy jest ten, który jest dodatni.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39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u&amp;lstrok;amki na osi liczbowej"/>
          <p:cNvPicPr/>
          <p:nvPr/>
        </p:nvPicPr>
        <p:blipFill>
          <a:blip r:embed="rId1"/>
          <a:stretch/>
        </p:blipFill>
        <p:spPr>
          <a:xfrm>
            <a:off x="1187280" y="3213000"/>
            <a:ext cx="7056720" cy="792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451640" y="4221000"/>
            <a:ext cx="1692360" cy="263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by porównać dwa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ułamki ujemne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należy sprowadzić je do wspólnego mianownika, ten jest większy, który ma mniejszy licznik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334960" y="2674800"/>
            <a:ext cx="4000320" cy="1714320"/>
            <a:chOff x="2334960" y="2674800"/>
            <a:chExt cx="4000320" cy="1714320"/>
          </a:xfrm>
        </p:grpSpPr>
        <p:sp>
          <p:nvSpPr>
            <p:cNvPr id="165" name=""/>
            <p:cNvSpPr/>
            <p:nvPr/>
          </p:nvSpPr>
          <p:spPr>
            <a:xfrm>
              <a:off x="3249360" y="3360600"/>
              <a:ext cx="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64040" y="3360600"/>
              <a:ext cx="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21040" y="3360600"/>
              <a:ext cx="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92360" y="3360600"/>
              <a:ext cx="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34960" y="3589200"/>
              <a:ext cx="4000320" cy="0"/>
            </a:xfrm>
            <a:prstGeom prst="line">
              <a:avLst/>
            </a:prstGeom>
            <a:ln w="60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06640" y="3817800"/>
              <a:ext cx="52164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06640" y="4160520"/>
              <a:ext cx="11412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92440" y="2674800"/>
              <a:ext cx="48816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78240" y="3931920"/>
              <a:ext cx="34272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92440" y="3017520"/>
              <a:ext cx="11412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132000" y="3860640"/>
                <a:ext cx="2955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780000" y="2781360"/>
                <a:ext cx="295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516720" y="2133720"/>
                <a:ext cx="257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516720" y="3141720"/>
                <a:ext cx="257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451640" y="2133720"/>
                <a:ext cx="3524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451640" y="3141720"/>
                <a:ext cx="3524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850080" y="3283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0080" y="2275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23968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47440" y="32846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12880" y="22766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12880" y="32846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859280" y="2708280"/>
                <a:ext cx="3319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184640" y="3860640"/>
                <a:ext cx="444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405560" y="4149720"/>
            <a:ext cx="1738440" cy="270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by porównać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ułamki dziesiętne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należy je porównywać od cyfr położonych z lewej strony.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03280" y="4797000"/>
            <a:ext cx="73137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miętaj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dy liczba cyfr po przecinku w porównywanych liczbach nie jest taka sama, to na końcu należy dopisać tyle zer, aby w każdej liczbie było tyle samo cyf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2562840"/>
            <a:ext cx="856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,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? 1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fry jedności w obu liczbach są jednakowe, więc porównujemy cyfry części dziesiąty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,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10,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nieważ 3 &gt; 2, zatem większa jest liczba 10,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o&amp;sacute; liczbowa i liczby na osi "/>
          <p:cNvPicPr/>
          <p:nvPr/>
        </p:nvPicPr>
        <p:blipFill>
          <a:blip r:embed="rId1"/>
          <a:stretch/>
        </p:blipFill>
        <p:spPr>
          <a:xfrm>
            <a:off x="1187280" y="1484280"/>
            <a:ext cx="7777440" cy="8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dległość liczb na osi liczbowej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zyjmujemy, że na osi liczbowej odcinek łączący licz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 długoś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nazywamy go odcinkiem jednostkowy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621160" y="4010760"/>
            <a:ext cx="3864240" cy="571680"/>
            <a:chOff x="2621160" y="4010760"/>
            <a:chExt cx="3864240" cy="571680"/>
          </a:xfrm>
        </p:grpSpPr>
        <p:sp>
          <p:nvSpPr>
            <p:cNvPr id="206" name=""/>
            <p:cNvSpPr/>
            <p:nvPr/>
          </p:nvSpPr>
          <p:spPr>
            <a:xfrm>
              <a:off x="2621160" y="4092480"/>
              <a:ext cx="38642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93920" y="4010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66320" y="4010760"/>
              <a:ext cx="108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11480" y="4010760"/>
              <a:ext cx="108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38720" y="4010760"/>
              <a:ext cx="108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83880" y="4010760"/>
              <a:ext cx="108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52520" y="4174200"/>
              <a:ext cx="474840" cy="40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24920" y="4174200"/>
              <a:ext cx="429120" cy="40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38720" y="4092480"/>
              <a:ext cx="572400" cy="36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zykł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03280" y="2060280"/>
            <a:ext cx="73137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osi liczbowej między liczbami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eszczą się 4 odcinki jednostkowe, więc odległość między tymi liczbami wynos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187280" y="4005360"/>
            <a:ext cx="6696360" cy="141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zykł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osi liczbowej między liczbami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−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−6,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eści się 1,5 odcinka jednostkowego. Odległość między tymi liczbami wynos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,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http://lukas94.files.wordpress.com/2011/03/oc59b4.png"/>
          <p:cNvPicPr/>
          <p:nvPr/>
        </p:nvPicPr>
        <p:blipFill>
          <a:blip r:embed="rId1"/>
          <a:stretch/>
        </p:blipFill>
        <p:spPr>
          <a:xfrm>
            <a:off x="2050920" y="4076640"/>
            <a:ext cx="5688000" cy="12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zykł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osi liczbowej między liczbami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−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eści się 8 odcinków jednostkowych. Odległość między tymi liczbami wynos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" descr="http://lukas94.files.wordpress.com/2011/03/oc59b5.png"/>
          <p:cNvPicPr/>
          <p:nvPr/>
        </p:nvPicPr>
        <p:blipFill>
          <a:blip r:embed="rId1"/>
          <a:stretch/>
        </p:blipFill>
        <p:spPr>
          <a:xfrm>
            <a:off x="1403280" y="3789360"/>
            <a:ext cx="6264360" cy="139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384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 zauważyłeś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by obliczyć odległość między dwiema liczbami na osi liczbowej, wystarczy od większej z tych liczb odjąć liczbę mniejszą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659640" y="429264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351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aka jest odległość na osi liczbowej             między liczbami a = −9,1 i b = −3,7?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71640" y="1827360"/>
            <a:ext cx="792144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−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,1 &lt; −3,7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b − 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−3,7 − (−9,1) = −3,7 + 9,1 =  5,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dp. Odległość między liczbami a i b wynosi 5,4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116000" y="3357720"/>
            <a:ext cx="7056360" cy="9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Od większej z liczb odejmujemy liczbę mniejszą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Zbiory wszystkich liczb spełniających daną nierówność na osi liczbowej.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7182000" cy="355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4508640"/>
            <a:ext cx="74548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latego musisz zapamiętać zasady porównywania ułamków.</a:t>
            </a:r>
            <a:br>
              <a:rPr sz="28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2" name="" descr="Porównywanie u&amp;lstrok;amków."/>
          <p:cNvPicPr/>
          <p:nvPr/>
        </p:nvPicPr>
        <p:blipFill>
          <a:blip r:embed="rId1"/>
          <a:stretch/>
        </p:blipFill>
        <p:spPr>
          <a:xfrm>
            <a:off x="1201680" y="1052640"/>
            <a:ext cx="7942320" cy="1690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Porównywanie u&amp;lstrok;amków. Metoda ta zawodzi, gdy masz oceni&amp;cacute; np. u&amp;lstrok;amki 3/11 i 3/13 (jak to narysowa&amp;cacute;?)"/>
          <p:cNvPicPr/>
          <p:nvPr/>
        </p:nvPicPr>
        <p:blipFill>
          <a:blip r:embed="rId2"/>
          <a:stretch/>
        </p:blipFill>
        <p:spPr>
          <a:xfrm>
            <a:off x="1116000" y="3068640"/>
            <a:ext cx="8028000" cy="582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80360" y="333360"/>
            <a:ext cx="83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Widząc rysunki można ocenić, który ułamek jest większy, a który mniejszy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688000" y="4797360"/>
            <a:ext cx="1260360" cy="12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212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rzykła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69800" y="1628280"/>
            <a:ext cx="7313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 &lt; x ≤ 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x ≤ 3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826920" y="2781360"/>
            <a:ext cx="7667640" cy="6904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611280" y="4724280"/>
            <a:ext cx="7704000" cy="685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5940360" y="0"/>
            <a:ext cx="1513080" cy="151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zykł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pisz nierówność, jaką spełniają wszystki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zby z zaznaczonego zbioru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7632720" cy="21798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7164360" y="189000"/>
            <a:ext cx="1800360" cy="1350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627280" y="4005360"/>
                <a:ext cx="289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356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zykł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4581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znacz na osi liczbowej wszystkie liczby, które spełniają podane nierówności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&gt; 3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&lt; -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≤ -1,3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≤ x ≤ 2,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5651640" y="3357720"/>
            <a:ext cx="2628720" cy="174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341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iteratura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matematyka.opracowania.pl</a:t>
            </a:r>
            <a:r>
              <a:rPr b="0" lang="pl-PL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pl-PL" sz="24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nauczyciel.pl</a:t>
            </a:r>
            <a:r>
              <a:rPr b="0" lang="pl-PL" sz="24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 powinna zawierać lub jak ma wyglądać oś liczbowa?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176720" cy="3686040"/>
          </a:xfrm>
          <a:prstGeom prst="rect">
            <a:avLst/>
          </a:prstGeom>
          <a:ln w="0">
            <a:noFill/>
          </a:ln>
        </p:spPr>
      </p:pic>
      <p:pic>
        <p:nvPicPr>
          <p:cNvPr id="98" name="Obraz 33" descr="http://www.yan-hurt.pl/DATA/528l.jpg"/>
          <p:cNvPicPr/>
          <p:nvPr/>
        </p:nvPicPr>
        <p:blipFill>
          <a:blip r:embed="rId2"/>
          <a:stretch/>
        </p:blipFill>
        <p:spPr>
          <a:xfrm>
            <a:off x="1187280" y="2060640"/>
            <a:ext cx="3889440" cy="35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3134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Osią liczbową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nazywamy prostą, na której obrano punkt 0 i ustalono zwrot oraz jednostkę długości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punkt zerowy na osi, pó&amp;lstrok;o&amp;sacute; dodatnia i ujemna"/>
          <p:cNvPicPr/>
          <p:nvPr/>
        </p:nvPicPr>
        <p:blipFill>
          <a:blip r:embed="rId1"/>
          <a:stretch/>
        </p:blipFill>
        <p:spPr>
          <a:xfrm>
            <a:off x="1692360" y="3357720"/>
            <a:ext cx="5895720" cy="1009440"/>
          </a:xfrm>
          <a:prstGeom prst="rect">
            <a:avLst/>
          </a:prstGeom>
          <a:ln w="0">
            <a:noFill/>
          </a:ln>
        </p:spPr>
      </p:pic>
      <p:pic>
        <p:nvPicPr>
          <p:cNvPr id="102" name="Obraz 34" descr="dggfbfgb.jpeg"/>
          <p:cNvPicPr/>
          <p:nvPr/>
        </p:nvPicPr>
        <p:blipFill>
          <a:blip r:embed="rId2"/>
          <a:stretch/>
        </p:blipFill>
        <p:spPr>
          <a:xfrm>
            <a:off x="468360" y="3933720"/>
            <a:ext cx="8116920" cy="1944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5280" y="4005360"/>
            <a:ext cx="7905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Jeżeli ułamki mają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takie same mianownik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to ten jest większy, który ma większy licznik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ma podzieliła ciasto na 16 równych kawałków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oś zjadł 3, a Ela 5 kawałków. Nie masz chyb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łopotu z oceną, kto zjadł więcej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az przełóżmy to na „język ułamków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Porównywanie u&amp;lstrok;amków. Anto&amp;sacute; zjad&amp;lstrok; 3/16 ciasta. Ela zjad&amp;lstrok;a 5/16 ciasta. 3/16 jest mniejsze od 5/16, poniewa&amp;zdot; 3 mniejsze od 5."/>
          <p:cNvPicPr/>
          <p:nvPr/>
        </p:nvPicPr>
        <p:blipFill>
          <a:blip r:embed="rId1"/>
          <a:stretch/>
        </p:blipFill>
        <p:spPr>
          <a:xfrm>
            <a:off x="826920" y="3716280"/>
            <a:ext cx="7632720" cy="247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Jeżeli ułamki mają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takie same mianownik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to ten jest większy, który ma większy licznik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4608360" cy="3886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580000" y="2349360"/>
                <a:ext cx="190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580000" y="5229360"/>
                <a:ext cx="190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580000" y="4292640"/>
                <a:ext cx="190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580000" y="3429000"/>
                <a:ext cx="190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32000" y="2276640"/>
                <a:ext cx="2667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332000" y="5157720"/>
                <a:ext cx="266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332000" y="4292640"/>
                <a:ext cx="266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32000" y="3429000"/>
                <a:ext cx="266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085160" y="2060640"/>
            <a:ext cx="2058840" cy="320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Jeżeli ułamki mają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takie same licznik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to ten jest większy, który ma mniejszy mianownik.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ykł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elką nagrodę w Toto-Lotku dzieli się równ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iędzy graczy, którzy skreślili poprawnie szóstkę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dybyś Ty był wygrywającym, to z pewności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olałbyś, aby nagroda była dzielona pomiędz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niejszą liczbę graczy (wtedy wygrana była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ększ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Porównywanie u&amp;lstrok;amków. Nagrod&amp;eogon; dziel&amp;aogon; pomi&amp;eogon;dzy 2 graczy. Nagrod&amp;eogon; dziel&amp;aogon; pomi&amp;eogon;dzy 3 graczy. 1/2 jest wi&amp;eogon;ksza od 1/3, poniewa&amp;zdot; 2 mniejsze od 3."/>
          <p:cNvPicPr/>
          <p:nvPr/>
        </p:nvPicPr>
        <p:blipFill>
          <a:blip r:embed="rId1"/>
          <a:stretch/>
        </p:blipFill>
        <p:spPr>
          <a:xfrm>
            <a:off x="755640" y="4581360"/>
            <a:ext cx="8101080" cy="163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Jeżeli ułamki mają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takie same licznik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to ten jest większy, który ma mniejszy mianownik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5472360" cy="3492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132680" y="2133720"/>
            <a:ext cx="2011320" cy="313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by porównać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ułamki dodatnie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, należy sprowadzić je do wspólnego mianownika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8605800" cy="1509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Porównywanie ułamków zwykłych - przykład"/>
          <p:cNvPicPr/>
          <p:nvPr/>
        </p:nvPicPr>
        <p:blipFill>
          <a:blip r:embed="rId2"/>
          <a:stretch/>
        </p:blipFill>
        <p:spPr>
          <a:xfrm>
            <a:off x="6877080" y="4437000"/>
            <a:ext cx="2144520" cy="22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racowała: Emilia Pawłowsk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4:12:45Z</dcterms:created>
  <dc:creator>Matematyka</dc:creator>
  <dc:description/>
  <dc:language>en-US</dc:language>
  <cp:lastModifiedBy>x</cp:lastModifiedBy>
  <dcterms:modified xsi:type="dcterms:W3CDTF">2013-04-22T15:19:08Z</dcterms:modified>
  <cp:revision>88</cp:revision>
  <dc:subject/>
  <dc:title>Widząc rysunki można ocenić, który ułamek jest większy, a który mniejszy.   Dlatego musisz zapamiętać zasady porównywania ułamków. Jeżeli ułamki mają takie same mianowniki, to ten jest większy, który ma większy licznik.</dc:title>
</cp:coreProperties>
</file>